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FA2-081E-47A3-89D1-95BFBB59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57D-F3C6-49C1-9DAB-54765438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DD3-4BBB-495C-8582-2D37976A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EFE-63A6-4DEE-B23A-9F5143F8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E6A-B0B7-4590-968F-4457C196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464-F08E-4660-BC4D-FD7E38F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6D9-C265-42B4-B211-16910CC9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624-9DDF-4117-9AEA-C3C46A32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C29-BDCE-4A81-A67A-DBA0B13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D60-566D-4194-9CF3-7143236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DA8-B0A2-4457-8B17-2B61236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36B-F71F-42F3-B74D-95B2418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27BA-456B-4CEB-B224-6A2D68350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73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وذا عودُ الصلي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عليه عُلِّقَ خلاصُ العا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لموا نسجدُ ل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36:23Z</dcterms:created>
  <dc:creator>SUZANNE.MD</dc:creator>
  <dc:description/>
  <dc:language>en-US</dc:language>
  <cp:lastModifiedBy>HANI SAFI</cp:lastModifiedBy>
  <dcterms:modified xsi:type="dcterms:W3CDTF">2003-04-17T11:12:14Z</dcterms:modified>
  <cp:revision>1</cp:revision>
  <dc:subject/>
  <dc:title>PowerPoint Presentation</dc:title>
</cp:coreProperties>
</file>